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5EC-4CFB-4942-97F7-AA418D2B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9FC-5680-4546-8204-D12FAA2E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1F1-1A4C-4D74-9162-B508FB3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706-42A6-496C-B6AA-D97D54DD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580-7117-402E-B0DD-7287629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B79-2BF9-489F-ADE0-2286D4E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4BF-3296-4810-B0C1-E5B00DC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BA8-28F1-4203-BC7D-172BBD5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77C-F521-41BF-8FE5-5250F60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58C-762C-49AA-AD44-DDDCE5B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463-CC42-407C-AAF4-B309FD1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65B-F2DF-4AD7-951B-7F0B55C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C56D-2424-428B-A117-3025A33957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43280" y="2637000"/>
            <a:ext cx="2736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141200">
            <a:off x="179280" y="1268280"/>
            <a:ext cx="2843280" cy="1871640"/>
          </a:xfrm>
          <a:prstGeom prst="rightArrow">
            <a:avLst>
              <a:gd name="adj1" fmla="val 50000"/>
              <a:gd name="adj2" fmla="val 3797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40200" y="244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09000">
            <a:off x="0" y="3860280"/>
            <a:ext cx="3382920" cy="1800360"/>
          </a:xfrm>
          <a:prstGeom prst="rightArrow">
            <a:avLst>
              <a:gd name="adj1" fmla="val 50000"/>
              <a:gd name="adj2" fmla="val 469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03640" y="1267920"/>
            <a:ext cx="17290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005360"/>
            <a:ext cx="11509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651640" y="2852280"/>
            <a:ext cx="21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3716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836640"/>
            <a:ext cx="115236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2276640"/>
            <a:ext cx="1130400" cy="115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292640"/>
            <a:ext cx="115272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157720"/>
            <a:ext cx="122400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5877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5705640"/>
            <a:ext cx="1547640" cy="11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0Z</dcterms:created>
  <dc:creator>studente</dc:creator>
  <dc:description/>
  <dc:language>en-US</dc:language>
  <cp:lastModifiedBy>studente</cp:lastModifiedBy>
  <dcterms:modified xsi:type="dcterms:W3CDTF">2017-01-09T08:52:28Z</dcterms:modified>
  <cp:revision>5</cp:revision>
  <dc:subject/>
  <dc:title>Diapositiva 1</dc:title>
</cp:coreProperties>
</file>